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6CC-E1E6-4ACB-B2E6-2C593667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90C-8739-40CB-9A8E-71990BE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F28-4B6B-41CA-B6B6-C0BC3E57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137-A764-4B3B-BCDC-68A68C67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ED9C-E584-499B-9D92-A55BE5D4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0D4-B547-4E98-9DC9-2A387E21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35E7-591A-4632-BAFE-8B29B433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910-E48C-493F-B0FB-FD2C4227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BBDA-F716-453C-927D-FACFEE71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14E2-73BC-4A11-A03B-6BA19E8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D33D-3850-472F-BA66-E70D311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BC1-61D3-478B-A6BE-F9C60063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7EED-D15E-4EDA-8127-9D00F33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47FA-C409-4CC5-8F7D-1D0626D9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1E87-6598-42B2-BF5D-A0DEEB3B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42D-C227-41AE-A469-835E13DB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877-F042-4C83-811C-0A0425B5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F8D-A2DE-4660-B0C5-4FEB016B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D19-48B6-4723-BB0F-0DE536C3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4DF-A1DC-4825-A78C-AF692A7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006-6639-4B17-8819-95D1EF82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952-6879-4E73-8517-E19440E1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653-A952-4B4F-9AA2-2C70657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038-2456-4B8B-9577-CB355EC0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FA5-2D4F-4B0D-9873-17514CE08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83F6-5C74-49E9-9FD4-E4AC0A56C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19320" y="6400800"/>
            <a:ext cx="7022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y Liz LaRosa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www.middleschoolscience.com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300" spc="-1" strike="noStrike" u="sng">
                <a:solidFill>
                  <a:srgbClr val="009999"/>
                </a:solidFill>
                <a:uFillTx/>
                <a:latin typeface="Arial"/>
              </a:rPr>
              <a:t>http://sciencespot.net/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 rot="20817600">
            <a:off x="301680" y="12906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nap ITC"/>
              </a:rPr>
              <a:t>Chemistr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1143000" y="5068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nap ITC"/>
              </a:rPr>
              <a:t>Challenge #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40384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nap ITC"/>
              </a:rPr>
              <a:t>Acids &amp; Ba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C:\Documents and Settings\Liz\Local Settings\Temporary Internet Files\Content.IE5\EEEZ3B4P\MCj03663640000[1].wmf"/>
          <p:cNvPicPr/>
          <p:nvPr/>
        </p:nvPicPr>
        <p:blipFill>
          <a:blip r:embed="rId2"/>
          <a:stretch/>
        </p:blipFill>
        <p:spPr>
          <a:xfrm>
            <a:off x="6858000" y="2362320"/>
            <a:ext cx="2165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0"/>
          <p:cNvSpPr/>
          <p:nvPr/>
        </p:nvSpPr>
        <p:spPr>
          <a:xfrm>
            <a:off x="609480" y="3999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rcle the stronger Acid in each pair of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38080" y="1981080"/>
            <a:ext cx="487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2  or pH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5 or pH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3 or pH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6 or pH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1 or pH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5" descr="C:\Documents and Settings\Liz\Local Settings\Temporary Internet Files\Content.IE5\P14UIVM6\MCj02153720000[1].wmf"/>
          <p:cNvPicPr/>
          <p:nvPr/>
        </p:nvPicPr>
        <p:blipFill>
          <a:blip r:embed="rId1"/>
          <a:stretch/>
        </p:blipFill>
        <p:spPr>
          <a:xfrm>
            <a:off x="5943600" y="4419720"/>
            <a:ext cx="2890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8"/>
          <p:cNvSpPr/>
          <p:nvPr/>
        </p:nvSpPr>
        <p:spPr>
          <a:xfrm>
            <a:off x="1523880" y="5334120"/>
            <a:ext cx="129564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3200400" y="4495680"/>
            <a:ext cx="129528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200400" y="3581280"/>
            <a:ext cx="129528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200400" y="2819520"/>
            <a:ext cx="129528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1523880" y="2057400"/>
            <a:ext cx="1295640" cy="914400"/>
          </a:xfrm>
          <a:prstGeom prst="ellipse">
            <a:avLst/>
          </a:prstGeom>
          <a:solidFill>
            <a:srgbClr val="99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609480" y="3999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rcle the stronger Acid in each pair of pH valu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838080" y="1981080"/>
            <a:ext cx="487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2  or pH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5 or pH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3 or pH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6 or pH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 1 or pH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5" descr="C:\Documents and Settings\Liz\Local Settings\Temporary Internet Files\Content.IE5\P14UIVM6\MCj02153720000[1].wmf"/>
          <p:cNvPicPr/>
          <p:nvPr/>
        </p:nvPicPr>
        <p:blipFill>
          <a:blip r:embed="rId1"/>
          <a:stretch/>
        </p:blipFill>
        <p:spPr>
          <a:xfrm>
            <a:off x="5943600" y="4419720"/>
            <a:ext cx="2890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4:12:40Z</dcterms:created>
  <dc:creator>Liz</dc:creator>
  <dc:description/>
  <dc:language>en-US</dc:language>
  <cp:lastModifiedBy>PritchaJ</cp:lastModifiedBy>
  <dcterms:modified xsi:type="dcterms:W3CDTF">2011-06-01T13:44:44Z</dcterms:modified>
  <cp:revision>57</cp:revision>
  <dc:subject/>
  <dc:title>Slide 1</dc:title>
</cp:coreProperties>
</file>